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65000"/>
            <a:ext cx="4903920" cy="36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840" y="4673160"/>
            <a:ext cx="4888080" cy="4442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72A9BE4-BD1A-4CD0-B07A-523F3F81D0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55A7354-782A-49AB-9D05-3C14F4693A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0C6E783-D99E-4D45-AB8B-D256012583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64C5481-5015-4BFA-B561-4E4F02A8B5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50BC59C-E2AB-4B1A-AE0F-4422813114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80D37B7-4FF2-4C04-9C94-EBC2CBFEFC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739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duct Status Report Neo, October, 24th,  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132EA2-D673-447B-8DE1-8217012E35B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97180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agement Summar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60520" y="4254480"/>
            <a:ext cx="426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.10.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-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chmi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.-J.Frey, H-M. Mues-H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Köhler, H. Bös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-B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.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 Hir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371600"/>
            <a:ext cx="609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14479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25560"/>
            <a:ext cx="6921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Status Repor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35080" y="1317600"/>
            <a:ext cx="71946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A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Continue with Neo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Not delayed within the mechanical process due to software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Release budget for tooling when necessary (before M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Stop of the project 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33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cision o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08960" y="462276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4076640"/>
            <a:ext cx="467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We take the following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600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576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13680" y="461808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102200" y="4583160"/>
            <a:ext cx="380880" cy="2919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25920" y="4630680"/>
            <a:ext cx="2436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Present agai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49400" y="390672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50600" y="3200040"/>
            <a:ext cx="321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chedule N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680" y="1066320"/>
            <a:ext cx="77724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SX1 2 Month delay for N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SW unclear (target until End Sep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core team not fully staff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companies (e.g Atelier) aren’t able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Neo due to SX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ct negotiations with Nokia are focusing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X1 not on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eries 60 contract available for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HW on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4 for HW on 2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July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1.9“ on critical pa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Only 30k are available end of Jul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193K are available end of Aug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0600" y="1152360"/>
            <a:ext cx="864252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  <a:ea typeface="Times New Roman"/>
              </a:rPr>
              <a:t>BOM develop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Start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Kempinski-WS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45 EUR (Basis Yazo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sult of Landshut-WS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1.07-01.08.03)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eo design V3 is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2,0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V3 includes: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amber keypad LED's (12er b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simple QWETRTY keypad (Foil Keypad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no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Current position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5.08.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o stacked EGOLD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 1,3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QWERTY-keypad SL55 like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5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d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1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white keypad LED's (12er block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3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&gt;Neo BOM today: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9,7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o-BOM: History and st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2200" y="2300400"/>
            <a:ext cx="770040" cy="2752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71880" y="2340000"/>
            <a:ext cx="769680" cy="27129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51200" y="1987560"/>
            <a:ext cx="770040" cy="306540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11920" y="1814400"/>
            <a:ext cx="770040" cy="3238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62440" y="1987560"/>
            <a:ext cx="769680" cy="35244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41760" y="1886040"/>
            <a:ext cx="770040" cy="10152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0880" y="1835280"/>
            <a:ext cx="770040" cy="5076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21440" y="1814400"/>
            <a:ext cx="770040" cy="2088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82760" y="2300400"/>
            <a:ext cx="770040" cy="3960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23160" y="1795320"/>
            <a:ext cx="770040" cy="1908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22440" y="5459400"/>
          <a:ext cx="7800840" cy="44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440" y="5459400"/>
                    <a:ext cx="78008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3551400" y="5883120"/>
            <a:ext cx="119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800" y="587520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Kem-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38960" y="5877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43280" y="587232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66760" y="116352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arget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98640" y="1220760"/>
            <a:ext cx="1166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pt #3 cost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5456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gu Qw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1028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ite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42160" y="1095840"/>
            <a:ext cx="1011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TC no stacked E-G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08680" y="1214280"/>
            <a:ext cx="1244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Qwerty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BO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287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412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0348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7860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414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343320" y="1322280"/>
            <a:ext cx="2720880" cy="4651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4680" y="245880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33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200" y="1671480"/>
            <a:ext cx="1174680" cy="78264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86240" y="1671480"/>
            <a:ext cx="1175040" cy="12049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12200" y="1671480"/>
            <a:ext cx="1172880" cy="15163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44520" y="1322280"/>
            <a:ext cx="2176560" cy="3873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3160" y="1322280"/>
            <a:ext cx="2722680" cy="46512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8720" y="16722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azoo” Commitment Kem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7880" y="1732680"/>
            <a:ext cx="104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64000" y="1672200"/>
            <a:ext cx="105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2520" y="280152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5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64600" y="311256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71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4680" y="1684440"/>
            <a:ext cx="862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15200" y="1716480"/>
            <a:ext cx="1201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lay / TT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X1 impac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87400" y="1725840"/>
            <a:ext cx="1089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ign concept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311040" y="1402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54040" y="3343320"/>
          <a:ext cx="8464680" cy="11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040" y="3343320"/>
                    <a:ext cx="8464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3032280" y="1709640"/>
            <a:ext cx="1174680" cy="12445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10040" y="1710360"/>
            <a:ext cx="104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76400" y="2879280"/>
            <a:ext cx="14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9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554040" y="4276800"/>
          <a:ext cx="8464680" cy="116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4040" y="4276800"/>
                    <a:ext cx="84646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54040" y="5286240"/>
          <a:ext cx="8464680" cy="116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4040" y="5286240"/>
                    <a:ext cx="846468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4121280" y="1814400"/>
            <a:ext cx="1089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atu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-1440" y="3733200"/>
            <a:ext cx="7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-110880" y="4573800"/>
            <a:ext cx="99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me in M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-2520" y="5475240"/>
            <a:ext cx="77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ce 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EBIT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327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56272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61144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8128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5720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7524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85920" y="18018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868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114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276720" y="2421000"/>
            <a:ext cx="4876560" cy="828360"/>
            <a:chOff x="3276720" y="2421000"/>
            <a:chExt cx="4876560" cy="828360"/>
          </a:xfrm>
        </p:grpSpPr>
        <p:sp>
          <p:nvSpPr>
            <p:cNvPr id="112" name=""/>
            <p:cNvSpPr/>
            <p:nvPr/>
          </p:nvSpPr>
          <p:spPr>
            <a:xfrm>
              <a:off x="3276720" y="242100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12720" y="242100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usiness case negati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327480" y="4702320"/>
            <a:ext cx="4876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85920" y="27162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9868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1144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657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8592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9868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1440" y="3706920"/>
            <a:ext cx="128520" cy="12528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4648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85920" y="469728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98680" y="46972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11440" y="4697280"/>
            <a:ext cx="128520" cy="125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5920" y="568800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98680" y="5688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11440" y="5688000"/>
            <a:ext cx="128520" cy="125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76720" y="1447920"/>
            <a:ext cx="4876560" cy="828360"/>
            <a:chOff x="3276720" y="1447920"/>
            <a:chExt cx="4876560" cy="828360"/>
          </a:xfrm>
        </p:grpSpPr>
        <p:sp>
          <p:nvSpPr>
            <p:cNvPr id="132" name=""/>
            <p:cNvSpPr/>
            <p:nvPr/>
          </p:nvSpPr>
          <p:spPr>
            <a:xfrm>
              <a:off x="3276720" y="14479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2720" y="14479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ctual S4 date end of August (2 month delay) due to SX1 impact (Blocking of internal and external software recourses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276720" y="3395520"/>
            <a:ext cx="4876560" cy="828360"/>
            <a:chOff x="3276720" y="3395520"/>
            <a:chExt cx="4876560" cy="828360"/>
          </a:xfrm>
        </p:grpSpPr>
        <p:sp>
          <p:nvSpPr>
            <p:cNvPr id="135" name=""/>
            <p:cNvSpPr/>
            <p:nvPr/>
          </p:nvSpPr>
          <p:spPr>
            <a:xfrm>
              <a:off x="3276720" y="33955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2720" y="33955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 features: QWERTY-Keyboard; </a:t>
              </a:r>
              <a:r>
                <a:rPr b="0" lang="en-GB" sz="1600" spc="-1" strike="noStrike">
                  <a:solidFill>
                    <a:srgbClr val="ff0000"/>
                  </a:solidFill>
                  <a:latin typeface="Arial"/>
                </a:rPr>
                <a:t>A-GPS (?)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; 1.3 MPix Camera; Open 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76720" y="4368960"/>
            <a:ext cx="4876560" cy="828000"/>
            <a:chOff x="3276720" y="4368960"/>
            <a:chExt cx="4876560" cy="828000"/>
          </a:xfrm>
        </p:grpSpPr>
        <p:sp>
          <p:nvSpPr>
            <p:cNvPr id="138" name=""/>
            <p:cNvSpPr/>
            <p:nvPr/>
          </p:nvSpPr>
          <p:spPr>
            <a:xfrm>
              <a:off x="3276720" y="4368960"/>
              <a:ext cx="4876560" cy="82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12720" y="4368960"/>
              <a:ext cx="48258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RF Connector due to design constr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5343480"/>
            <a:ext cx="4876560" cy="828360"/>
            <a:chOff x="3276720" y="5343480"/>
            <a:chExt cx="4876560" cy="828360"/>
          </a:xfrm>
        </p:grpSpPr>
        <p:sp>
          <p:nvSpPr>
            <p:cNvPr id="141" name=""/>
            <p:cNvSpPr/>
            <p:nvPr/>
          </p:nvSpPr>
          <p:spPr>
            <a:xfrm>
              <a:off x="3276720" y="534348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12720" y="534348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124080" y="1066680"/>
            <a:ext cx="54104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 (regarding last milest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07520" y="6248520"/>
            <a:ext cx="676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al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244520"/>
            <a:ext cx="3504960" cy="1041480"/>
          </a:xfrm>
          <a:prstGeom prst="roundRect">
            <a:avLst>
              <a:gd name="adj" fmla="val 6097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5440" y="1255680"/>
            <a:ext cx="33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/Reference-Clas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X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   Cosmopolitan Net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le &gt;&gt; Female, 25-40 years, high income,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amp; privat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520" y="4719600"/>
            <a:ext cx="6642000" cy="1757520"/>
            <a:chOff x="533520" y="4719600"/>
            <a:chExt cx="6642000" cy="1757520"/>
          </a:xfrm>
        </p:grpSpPr>
        <p:sp>
          <p:nvSpPr>
            <p:cNvPr id="148" name=""/>
            <p:cNvSpPr/>
            <p:nvPr/>
          </p:nvSpPr>
          <p:spPr>
            <a:xfrm>
              <a:off x="533520" y="5004000"/>
              <a:ext cx="6642000" cy="1473120"/>
            </a:xfrm>
            <a:prstGeom prst="roundRect">
              <a:avLst>
                <a:gd name="adj" fmla="val 5282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040" y="5069160"/>
              <a:ext cx="336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24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06960" y="5069160"/>
              <a:ext cx="24415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75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08680" y="500400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040" y="4719600"/>
              <a:ext cx="1836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96880" y="5046840"/>
            <a:ext cx="7121520" cy="1401480"/>
            <a:chOff x="596880" y="5046840"/>
            <a:chExt cx="7121520" cy="1401480"/>
          </a:xfrm>
        </p:grpSpPr>
        <p:sp>
          <p:nvSpPr>
            <p:cNvPr id="154" name=""/>
            <p:cNvSpPr/>
            <p:nvPr/>
          </p:nvSpPr>
          <p:spPr>
            <a:xfrm>
              <a:off x="596880" y="5046840"/>
              <a:ext cx="3527280" cy="14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MP product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A-GPS variant (?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MC card slo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 OS (Series 60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1120" y="5046840"/>
              <a:ext cx="35272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Compet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</a:t>
              </a:r>
              <a:br>
                <a:rPr sz="1300"/>
              </a:b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A-GPS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 variant &amp; </a:t>
              </a:r>
              <a:r>
                <a:rPr b="0" lang="de-DE" sz="1400" spc="-1" strike="noStrike">
                  <a:solidFill>
                    <a:srgbClr val="ff0000"/>
                  </a:solidFill>
                  <a:latin typeface="Arial"/>
                </a:rPr>
                <a:t>W-LAN o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14800" y="1244520"/>
            <a:ext cx="3443400" cy="1041480"/>
            <a:chOff x="4114800" y="1244520"/>
            <a:chExt cx="3443400" cy="1041480"/>
          </a:xfrm>
        </p:grpSpPr>
        <p:sp>
          <p:nvSpPr>
            <p:cNvPr id="157" name=""/>
            <p:cNvSpPr/>
            <p:nvPr/>
          </p:nvSpPr>
          <p:spPr>
            <a:xfrm>
              <a:off x="4114800" y="1244520"/>
              <a:ext cx="3048120" cy="1041480"/>
            </a:xfrm>
            <a:prstGeom prst="roundRect">
              <a:avLst>
                <a:gd name="adj" fmla="val 6097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1120" y="1295640"/>
              <a:ext cx="33670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sines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3 09/04,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lume over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5 M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BIT p.u. Targe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x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14800" y="2414520"/>
            <a:ext cx="3051000" cy="123048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645000"/>
            <a:ext cx="3051000" cy="123012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414520"/>
            <a:ext cx="3708360" cy="2449440"/>
          </a:xfrm>
          <a:custGeom>
            <a:avLst/>
            <a:gdLst>
              <a:gd name="textAreaLeft" fmla="*/ 0 w 3708360"/>
              <a:gd name="textAreaRight" fmla="*/ 3708720 w 3708360"/>
              <a:gd name="textAreaTop" fmla="*/ 0 h 2449440"/>
              <a:gd name="textAreaBottom" fmla="*/ 244944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79" y="0"/>
                </a:lnTo>
                <a:lnTo>
                  <a:pt x="21600" y="10800"/>
                </a:lnTo>
                <a:lnTo>
                  <a:pt x="192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414520"/>
            <a:ext cx="2819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end use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nnovative &amp; elegant design combining functionality and esthetic in a surprisung 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st &amp; easy text 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uality photo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6880" y="2428920"/>
            <a:ext cx="321300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WERTY Keyp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n OS (Series 6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,3 mega pixel camera with attachable 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   flash (accessory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300" spc="-1" strike="noStrike">
                <a:solidFill>
                  <a:srgbClr val="ff0000"/>
                </a:solidFill>
                <a:latin typeface="Arial"/>
              </a:rPr>
              <a:t>MP3 player (tb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xternal memory (MM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A-GPS variant (?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messaging device offering an innovative design merging phone &amp;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648240"/>
            <a:ext cx="27432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or specific MMI &amp; hard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l range of messaging services (SMS, MMS, e-mail, IM, PT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ff0000"/>
                </a:solidFill>
                <a:latin typeface="Arial"/>
              </a:rPr>
              <a:t>Assisted GPS variant enabling location-base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Profile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585200" y="2365200"/>
            <a:ext cx="1393560" cy="26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91960" y="1092240"/>
          <a:ext cx="8115480" cy="576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092240"/>
                    <a:ext cx="81154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 flipV="1">
            <a:off x="825480" y="1262160"/>
            <a:ext cx="716292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A Projec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960" y="977760"/>
            <a:ext cx="1095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all Project Statu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2120" y="1050840"/>
            <a:ext cx="719460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Softw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oftware only partly progress (Predevelopment S60 V2.0). Only very little progress in other areas (System architecture, integration, planning, SWI, 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Therefore S0-Status for SW not reachable during the next weeks due to resource allocation for S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Hardw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0 Status reached 1</a:t>
            </a:r>
            <a:r>
              <a:rPr b="0" lang="en-GB" sz="1400" spc="-1" strike="noStrike" baseline="30000">
                <a:solidFill>
                  <a:srgbClr val="004b6a"/>
                </a:solidFill>
                <a:latin typeface="Arial"/>
              </a:rPr>
              <a:t>st</a:t>
            </a: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 of October. We now are facing the situation of upcoming investments for tooling and proto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Business Ca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till negative and further negative impact due to T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Ac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Investigation of different scenarios based on SX1 V1.2 Software are not sufficient for TTM and business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cenarios based on Penelope could lead to a sufficient solution – further investigation necessary. 1</a:t>
            </a:r>
            <a:r>
              <a:rPr b="0" lang="en-GB" sz="1400" spc="-1" strike="noStrike" baseline="30000">
                <a:solidFill>
                  <a:srgbClr val="004b6a"/>
                </a:solidFill>
                <a:latin typeface="Arial"/>
              </a:rPr>
              <a:t>st</a:t>
            </a: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 estimation TTM -&gt; launch end Sept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76360" y="1676520"/>
            <a:ext cx="3614760" cy="30477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677960"/>
            <a:ext cx="373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er device: BOM +Conv. Cost + Lic. Fee = HK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6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08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antities (Mi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7720" y="5216400"/>
            <a:ext cx="762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its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ver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fe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02200" y="4186080"/>
            <a:ext cx="325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6640" y="6351480"/>
            <a:ext cx="177840" cy="166680"/>
          </a:xfrm>
          <a:prstGeom prst="rect">
            <a:avLst/>
          </a:prstGeom>
          <a:solidFill>
            <a:srgbClr val="ffd14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33840" y="6324480"/>
            <a:ext cx="69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14760" y="6095880"/>
            <a:ext cx="568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48440" y="6143760"/>
            <a:ext cx="153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ajor Change compared to last re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6640" y="6135840"/>
            <a:ext cx="177840" cy="1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1676520"/>
            <a:ext cx="3610080" cy="21333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83120" y="1677960"/>
            <a:ext cx="1970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st price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151000"/>
            <a:ext cx="68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unch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30481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ase out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67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9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16440" y="5313240"/>
            <a:ext cx="1274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 o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turn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19320" y="5105520"/>
          <a:ext cx="292104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715000" y="1905120"/>
          <a:ext cx="2921040" cy="93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19051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716440" y="2808360"/>
          <a:ext cx="2921040" cy="93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440" y="280836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715000" y="5105520"/>
          <a:ext cx="2921040" cy="93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1500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12680" y="542772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12680" y="523548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30360" y="1828800"/>
          <a:ext cx="3512880" cy="284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0360" y="1828800"/>
                    <a:ext cx="35128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962520" y="9144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8800" y="6095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612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9720" y="335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inancial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9680600">
            <a:off x="6120" y="2296440"/>
            <a:ext cx="725184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192320"/>
          <a:ext cx="6629400" cy="332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2320"/>
                    <a:ext cx="66294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685800" y="5181480"/>
          <a:ext cx="6324480" cy="1266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181480"/>
                    <a:ext cx="63244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553080" y="1295280"/>
            <a:ext cx="259092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ounts: E981-0085, E982-008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984-04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Status: 28.08.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48308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overview until M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9680600">
            <a:off x="-324000" y="2296800"/>
            <a:ext cx="72514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&amp;D Spending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isks and Actions Neo (1)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44600" y="1136520"/>
          <a:ext cx="8180280" cy="5332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1136520"/>
                    <a:ext cx="8180280" cy="53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isks and Actions Neo (2)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9040" y="1357200"/>
          <a:ext cx="823608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040" y="1357200"/>
                    <a:ext cx="823608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Mues-Hane</dc:creator>
  <dc:description/>
  <dc:language>en-US</dc:language>
  <cp:lastModifiedBy>Jürgen Schmitz</cp:lastModifiedBy>
  <cp:lastPrinted>2002-11-05T09:45:05Z</cp:lastPrinted>
  <dcterms:modified xsi:type="dcterms:W3CDTF">2003-10-24T09:01:18Z</dcterms:modified>
  <cp:revision>531</cp:revision>
  <dc:subject/>
  <dc:title>Template Project Status Review</dc:title>
</cp:coreProperties>
</file>